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656F-0863-4462-9485-88F977D94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69C-284F-4CE9-B787-D15A61DFE3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C711-E98D-486E-80C3-46FB9189ED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9B5-B39E-4411-99FE-64EF6D16C8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BFAF-FA48-451B-BE05-EDB6F74B97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7D6-7454-4878-9640-4D77E862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BD8-B99A-4AE1-96EB-32367C15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5E5583-F7F6-44B3-B041-F3E09A2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2C8E6A-33B7-41E1-994A-5310D9A3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520EA-69AB-425E-8598-4FC620F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E5629F-3C61-4062-BB8A-DBB4F47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4421D-F275-49EA-B28E-05FF013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61C98-A6AE-42AC-A878-B1C7A85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00556-0601-49C4-87E4-87E0BBD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BFB43-D2B1-468D-AF04-56731E23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72C01-F67C-4B9C-BEB1-27F5A00B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8F0-3174-40DB-AB0B-68AB3C42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AE1-80A3-4783-B70B-B5054FE8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6DC7C-6E50-4C30-A502-E436D00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D3D0E-F85D-4729-AEF8-6C7E327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15FF9-BD59-463B-B48D-0D446381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0E62B-1A32-4C5B-B40F-CF395D6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AE0D9-B209-44C2-A475-DCF311D3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1815-B301-43A1-8AE1-5DEE801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439C-939B-48AC-B9DE-406FD29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D2E-E2EE-4B15-9B96-5C9BFE9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8318-DC5F-4899-8BBD-FD6DA83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835C8-6FD1-47AA-AC01-9D2B83A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93B3E-3115-44E2-A739-BFF0059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44B31-8BFB-41C4-9DDA-40081F67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C813A-1E2A-4688-ADFB-0CF70A14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DA36-2428-4B3D-914A-1F734DED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4FC9-5119-4C69-BD18-5D64D5F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96AD-CAC9-40C1-AA11-2F2E109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5ECA-8699-4024-8E6D-BD9DDB97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7B1E-F587-4DE0-BC23-55EF67A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E43-A816-4E0C-9211-3356928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D9D3-79F8-4317-A4D1-42BD7D8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163D-1D5C-4205-AC24-4DD3A4A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17BA-4F0C-4698-874A-074EF968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EF9B-723C-4A06-A855-E38AC92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FBB6-42A8-417D-892C-91019A7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291D-D909-4D3D-8F18-04CDF0B9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7A44-86B5-49E1-86EE-2F85BEB3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DD62E-7FEC-4EB3-8AA3-9D9B4DA6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56F52-7110-4213-B47D-A33F702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B86E8-25FC-455A-856D-E8E2D6A0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791-6158-4106-8B8A-025C79FC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28BA8-4F0E-4A28-B363-4B0DE33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3BC82-DFA1-44F8-81B5-2F6CBE3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CCAEC-06E5-40D5-8DB8-0CC6D1F0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BCBD2-55F6-4315-9004-104053D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84B11-BC92-44BA-8D8B-0B9AE54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D7629-F24C-4EFA-98BE-DFF6610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B5CD8-8566-4110-853F-084B2E7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202F2-2E64-405F-B952-CC4E0E00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93918-2A6B-417D-AD7C-A8947940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5B75-D05B-4C42-80B8-47DDB26A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F0C-F75C-4F85-A428-0A44A31B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10E5-A7F7-4188-992C-8B9439C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140B-52DD-4171-B989-9985E20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2893-0296-44AA-BEE1-AEAB0660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1EBD-66D5-41E0-A857-4FA3BFA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BFD5-FA7B-4A26-9FC6-2A15455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5FD5-F7E7-4EF7-80CA-941336D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6657-649D-4FAF-A816-8D00F5DC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F502-AD9A-4FB3-8B68-3622A84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8164-CC59-4DFA-9D3F-DDB5DD3A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58F1-7646-4ACD-BFCA-030875CA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08B-71F3-4212-BA4F-359B08B0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0C9E-264D-480A-81D3-10E97730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982D-C14C-40B3-866F-24AB1321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D1153-63F7-4359-BC11-2A04DBF6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17DF-48E8-4692-A8CF-0F1188C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83CA-FC33-4F7A-812C-EEA001F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245D-A2FD-411B-98B4-B98443E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79B4-8CFC-4FD3-B6A4-44E08CF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6D0B-0580-4970-ACC7-4906C2B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22EF-D6EE-4D66-AC21-E0454AF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67D5-1C4B-40B1-AB5C-9CA88F9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8ED-EDBE-4F2E-AF3C-207B045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01EE-186F-4099-BB53-837A9A2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8A0A-6735-4A63-A610-047C6A0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E22CA-1936-44CA-99CB-28FF926C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450F-024B-4CF4-BFF5-99504F24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2C05-B544-431D-AA15-4E39342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7AD8-1EFC-4C91-84B7-9831E6A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D443-454C-4C11-9082-E78630A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5FEB-943A-4C24-9B26-FE60F3E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977DB-15AB-46B6-ACA1-AC80E3D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DDC3-4468-4318-9C4F-656394C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D47-9390-4918-9121-3BD66C7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7C254-AADF-4ABF-9B30-EEDCD02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284B-EF43-4841-9CFA-27C9C6D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0CDA0-45E0-40F5-8325-752AA28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30FC-479E-4CA9-8EFD-57086389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2525-8BA9-41D4-8BD6-72BB30D3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437DA-B4D6-4711-9B24-60B32E38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0E52B-1073-4AA9-915A-90386F7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73BAA-2421-46F0-9A55-F96970A4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0FC2F-C43B-4E30-AEF2-6BD09C8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28EA48-BD75-474C-9B33-E07ED26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29C-3D78-476B-A434-E5FB382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A4AF3-668B-4368-9221-592DCE8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A5406-1A10-448B-84CC-7C9659F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6AE1B-A4B1-4EA8-A12F-E68D6EC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2FE91-2AEA-4BAD-BA88-CD89AA5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3039D-AD8B-46C7-B4FA-BC52A7F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E4155-0678-4566-BF07-97E78611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B9C29-0CE7-421E-9F8C-A0038A3C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3BADD-9B88-4669-8289-DD1431A3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269EE-28EB-4EDF-B509-E46AA30F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F25B7-9A13-4AA3-B130-868D023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8A16-ACC6-4A6B-BEDD-668C525BEA48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DF0C-BA1C-4D13-B721-43218C53DDE2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B48-53A0-4E1D-B811-F72878A6AE41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A848-D660-483C-8E40-EF8E4E117AAC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4725-5ECA-4B35-BC2D-E989F945B2F2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E867-A5A2-4D71-87E9-C720CCD8DAD0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B626-E4CD-408C-8210-2D541E2F1303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C50-B554-42A0-85E8-901F4FA30D88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5C9F-6E7B-407C-A4C2-9EA2EC9FF45B}" type="slidenum">
              <a:rPr b="0" lang="en-US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№ 20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Сочи Центрального района Краснодарского края»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362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2d700"/>
                </a:solidFill>
                <a:latin typeface="Arial"/>
              </a:rPr>
              <a:t>Нерациональное использование во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3962520"/>
            <a:ext cx="2133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сатова Натал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стерян Анастас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 А класс, школа №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горелова Е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6400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чи,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Картинка 2 из 281798"/>
          <p:cNvPicPr/>
          <p:nvPr/>
        </p:nvPicPr>
        <p:blipFill>
          <a:blip r:embed="rId2"/>
          <a:stretch/>
        </p:blipFill>
        <p:spPr>
          <a:xfrm>
            <a:off x="304920" y="152280"/>
            <a:ext cx="4724280" cy="3084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Картинка 8 из 281798"/>
          <p:cNvPicPr/>
          <p:nvPr/>
        </p:nvPicPr>
        <p:blipFill>
          <a:blip r:embed="rId3"/>
          <a:stretch/>
        </p:blipFill>
        <p:spPr>
          <a:xfrm>
            <a:off x="152280" y="3276720"/>
            <a:ext cx="4953240" cy="3354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0008cdaq"/>
          <p:cNvPicPr/>
          <p:nvPr/>
        </p:nvPicPr>
        <p:blipFill>
          <a:blip r:embed="rId4"/>
          <a:stretch/>
        </p:blipFill>
        <p:spPr>
          <a:xfrm>
            <a:off x="4800600" y="1981080"/>
            <a:ext cx="42292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1292400" y="298440"/>
            <a:ext cx="6413400" cy="798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ть экономят ли воду жители города Сочи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 сколько жители города тратят воды на хозяйственные нужды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ть экономят ли горожане воду, и по каким причинам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ить рекомендации населению как можно экономить воду дома и оформить их в форме стенгазеты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353880" y="231840"/>
            <a:ext cx="870444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533520" y="1981080"/>
          <a:ext cx="7924680" cy="441648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озяйственные нуж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оличество истраченной в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ыть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7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ыть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8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гото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и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4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378000" y="249120"/>
            <a:ext cx="83152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Содержимое 3"/>
          <p:cNvGraphicFramePr/>
          <p:nvPr/>
        </p:nvGraphicFramePr>
        <p:xfrm>
          <a:off x="457200" y="1731960"/>
          <a:ext cx="8229600" cy="435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4" name="Содержимое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31960"/>
                    <a:ext cx="822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1444680" y="450720"/>
            <a:ext cx="6261120" cy="72576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3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853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Прямоугольник 3" descr=""/>
          <p:cNvPicPr/>
          <p:nvPr/>
        </p:nvPicPr>
        <p:blipFill>
          <a:blip r:embed="rId2"/>
          <a:stretch/>
        </p:blipFill>
        <p:spPr>
          <a:xfrm>
            <a:off x="987480" y="1962000"/>
            <a:ext cx="7175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34:36Z</dcterms:created>
  <dc:creator>Аня</dc:creator>
  <dc:description/>
  <dc:language>en-US</dc:language>
  <cp:lastModifiedBy>1</cp:lastModifiedBy>
  <dcterms:modified xsi:type="dcterms:W3CDTF">2016-11-24T05:46:19Z</dcterms:modified>
  <cp:revision>18</cp:revision>
  <dc:subject/>
  <dc:title>  Выполнил: Диденко Илья Объединение «Экопатруль» Руководитель: Игушева А.В.</dc:title>
</cp:coreProperties>
</file>